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7.jpeg" ContentType="image/jpeg"/>
  <Override PartName="/ppt/media/image28.jpeg" ContentType="image/jpeg"/>
  <Override PartName="/ppt/media/image20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26.jpeg" ContentType="image/jpeg"/>
  <Override PartName="/ppt/media/image13.jpeg" ContentType="image/jpeg"/>
  <Override PartName="/ppt/media/image37.png" ContentType="image/png"/>
  <Override PartName="/ppt/media/image34.gif" ContentType="image/gif"/>
  <Override PartName="/ppt/media/image10.gif" ContentType="image/gif"/>
  <Override PartName="/ppt/media/image39.jpeg" ContentType="image/jpeg"/>
  <Override PartName="/ppt/media/image41.jpeg" ContentType="image/jpeg"/>
  <Override PartName="/ppt/media/image33.png" ContentType="image/png"/>
  <Override PartName="/ppt/media/image40.gif" ContentType="image/gif"/>
  <Override PartName="/ppt/media/image18.png" ContentType="image/png"/>
  <Override PartName="/ppt/media/type.wav" ContentType="audio/x-wav"/>
  <Override PartName="/ppt/media/image6.jpeg" ContentType="image/jpeg"/>
  <Override PartName="/ppt/media/image27.jpeg" ContentType="image/jpeg"/>
  <Override PartName="/ppt/media/image11.gif" ContentType="image/gif"/>
  <Override PartName="/ppt/media/image38.gif" ContentType="image/gif"/>
  <Override PartName="/ppt/media/image8.gif" ContentType="image/gif"/>
  <Override PartName="/ppt/media/image4.jpeg" ContentType="image/jpe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117-61C2-4A7C-BC51-F4722E5B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483-606C-4FAF-AE80-47D1398A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F9095-1B95-49BE-B6F0-30E611E7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B11CC-9EFA-4D02-8203-17A0030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8CA19-E9F5-4CD6-86BB-6C00D2B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CD559-04E6-4451-B76E-DC75F5D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9B3D8-4323-4D47-AF60-0A9975E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B1B37-6751-4556-BD91-72FF3AC5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57ED-4B29-473D-8B31-025F02C7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A8D69-4287-488E-82BF-9E7D9F11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90F0C-6812-49CB-8204-7CB5B31D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C7E41-BFD7-4608-9FC2-C5734B45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C32-05F4-4445-B5B4-CD21C697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0205B-4356-4424-9B36-61BFBF8C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DBC9B-C450-4212-BA4F-827A55AA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A9695-12CC-4B8E-8827-996EBFB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3F642-3338-40CB-87EF-7F045C3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63C01-F0FD-4714-8E40-2C7ECAEF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F9B46-41DE-4201-96A0-9FC5551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03FF0-B8EA-47FC-83A9-FF53D7D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EA3F2-6EA2-44A2-85D4-29AE5E4A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14D22-BDA2-462E-8EAF-07CAF95F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5673D-EE9D-4C19-9CD8-47F5E7FB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8E2-7D59-44A7-8303-A8B5ED2E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3BAD-05F2-4A9B-BDD4-A42DE712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70440-014E-46D6-8401-6A93B56F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7CC73-61F7-42FF-8C07-071F5C63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760B-DED5-4641-A7DB-1704279C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5E8B5-9119-43B9-B81A-8E58CE3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987FC-0884-498A-8F26-050C928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DD5E2-4B2A-4015-8D23-65503B1A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DD670-01C1-4987-8148-A62E6F4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E984C-6150-4AF4-833E-80DCD2D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7EDB-1D3F-48D5-861D-998A7C74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5BCC-CD2E-4027-BBBB-D439AD84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D5EF9-8B94-4C3A-A432-B8EF7C9C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DE021-A218-4CA3-BE09-A32A0ABC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B53F-A9D3-4494-8D17-63C1CD0F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FF921-6D99-496E-A445-FC6B8BBB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6BB32-A7A0-49DC-A1C3-085D980A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EB486-2BEC-4124-B75C-66559A8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7A318-B613-48D2-B503-AE4C66D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56534-0146-49AC-9E6B-37B913DD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E70DA-2F05-466E-89E9-1DAF09AB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67BC5-70A4-497D-B464-5A0A7D4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E664-63E9-469E-A24D-5B3D34D4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85C55-D65B-49CF-8599-4375DE3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E51A8-D9B6-4511-8DAF-1ED36AC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2417E-6795-42F4-A7D2-B183191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BC1B-E26D-4D9C-A5A5-55260E3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7A218-2CA0-4C92-9DBC-F85CCBD8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6D42-B057-4C09-ABDE-2436EF1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2E15-E5CD-4D9F-B4E3-05799E45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EC5D-9E86-46D1-A1B6-440E7758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6546-952F-4569-887A-9EC252A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E8B9-AF7C-4F15-8E7E-62AEFE3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BEA-00C6-4282-BCE8-DF951E4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3ABC-B88D-473D-AE84-653F467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5BF2-A52B-4E36-8D5A-CABA9EE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E1AA-486A-4C41-AB80-299196A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8D0-9C1C-45F4-9FE6-D9A742F2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D040-344F-4BB8-828E-6D0ECF6F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71B0-AFB2-4ED9-8489-AD3EDC0B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6ECF-0F87-4C30-9656-D9312D5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6610-AAB2-4041-A1D1-97AD1011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742F-0BEF-4A37-8362-2F4B918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DE75-1A43-4455-A831-1105643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E59-E323-4DF7-9504-6A9E8ED2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1B29-071D-4A3E-A069-27304EF0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12BBD-DECA-4782-A50D-A30D29CA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8F27-7C6C-4339-885F-084B53F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0122-FEF2-49D2-B736-A44A9EB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3841-3210-4D14-AEE5-93BFA01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7F54-5D55-4512-9628-1F4EE5AF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7212-133E-47B2-A6EE-6A207C7C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85D11-6029-4661-AC46-23B8A09A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DDE2-47B0-4E76-838B-93522EC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0DDF-9FD0-4BF5-B824-B837A4B1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9E3-785D-43BB-AE4E-59602FFE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2EB1A-2EDA-473B-9A52-DA4282ED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78D6-8048-48CA-8EAA-7C6D220D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0AF0-4C6D-4602-A764-C3B3F6FA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B1200-99E3-4633-BD08-ABBFBD5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D8A2-BF33-4D88-9D9C-67CE043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A424-3C97-48CB-A19B-B4A0902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894D1-9975-42EB-954A-2DB1F69E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95BC0-C595-4329-9C3B-471DD404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A915-771D-4A33-8064-1CC60DF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A7384-90AC-4575-83AA-52CDFD1A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FAE-0290-477B-927C-DFBAA5DD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777F-9197-4766-9489-6792F5DF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F734-AE88-48CB-9628-7360AC5D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BC4B-EF4B-48FC-B499-C9783475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A25C-120E-4F3E-8DA7-AAA97993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BA04-1FEC-40D3-8C45-7A592793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266A-BFD9-4420-B56B-875EF6D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63453-DF17-460C-8287-9E787DD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0DE5-047E-402F-B011-E5F8CE0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0481-89F3-4C4D-B0D2-01313352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BE40-A15A-453A-AD50-B4E518CD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468-EBFA-47C5-9211-DA191662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05F8A-B57C-44AC-B2E6-C63133F7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891B2-49E0-48A8-8261-BCF4C40F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51C8-2D2D-4A26-ABA4-90E43409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07871-30CB-40A9-BAD9-BEABE70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0FB04-5D50-46C1-A0E7-ED98CC6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FC6D-5690-42B1-A9AC-9EEE34EB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A947-E1A2-480C-8C43-4BB1D4CD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3271A-5241-431C-8D31-8A5B7DE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FED8-84B3-478A-AAB0-A8B8F58F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7A9C3-EB98-494E-AAEB-DB037E0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AA1-2048-4CD0-BE6A-6785A90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4C0E4-22A8-4C1B-8F2B-200FB00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D1D5-D814-473A-98DE-710AC0DD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DEE43-6121-4248-8B31-5DB51648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5ACE4-7C65-42FE-AC28-F15A8C41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EAF97-233D-4F01-BF5C-A86DEA38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AC8FC-0393-4CC0-81A8-4BD29506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488A0-CDF0-4D2F-837B-323E15C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32E4-2D08-410D-B275-EE61ED44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C891-A8D3-43BB-ABD2-9A55AA84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67FF8-5031-4BE7-81F6-64D0AAD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B5A-ABA0-4DAF-B1F1-2333E8F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4BF8-B63F-42C8-ADE4-8FEA04BF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7802-18BD-4DB4-9A66-25E1F1E9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8E0FC-FBFC-4C01-BFC9-AE5A659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1E00-A677-44E1-BFD1-0C84EAE5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79729-497E-4638-82CB-2A4D9CAB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7B279-B01E-4633-9EF2-F65EDC4C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57E6-A5C7-4F55-ADBB-AC344F5E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CBBEA-C6E6-43A3-A716-4CE937B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8D9F5-F367-4511-9329-9B60F9A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75BB-B467-4F6C-A1F6-6AD66B4D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86A-2272-47E9-BF58-E0688B7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116E2-D13A-40BC-8402-9441232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A95C2-8587-4877-947A-48F12B0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5B5E1-F052-4DF5-A82E-80918E4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39600-49DF-4360-BECC-FEE6958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50F4B-FD17-464B-AEAC-9B1C8AF8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468FF-E521-4E61-AC57-70F680D5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CEBA-E8CC-4321-AB26-AB950683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39F32-72C6-4CC3-ABA6-56790561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9B354-728D-4834-BF6E-FD82F884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0644B-1359-477B-9404-1B2E00D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3671-9B81-4AAE-A4E8-30072DD1B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4CA-1F6A-4C8D-AB72-982547986E3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5412-C253-42F2-A5A0-04894B5BE68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A97-42C4-437C-A593-2D323ADF66C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0772-43B4-483C-ACCA-C95E5D641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629-2824-48ED-93A1-1E47F653E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6D5F-2020-4AD2-8E6E-0B12BCE5C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21E-6111-4AF3-8A59-98A885C60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9E3-29E8-487B-B565-B66F7D2E2E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CEB2-37BA-4365-8A77-A03C845D81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9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9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9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AF24-E67E-47C6-A289-72218E99F77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4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CB6B-F9F9-4E1F-8DF9-C740C450E566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11280" y="1628640"/>
            <a:ext cx="7777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    </a:t>
            </a:r>
            <a:r>
              <a:rPr b="1" lang="zh-CN" sz="6600" spc="-1" strike="noStrike">
                <a:solidFill>
                  <a:srgbClr val="3333cc"/>
                </a:solidFill>
                <a:latin typeface="华文彩云"/>
                <a:ea typeface="华文彩云"/>
              </a:rPr>
              <a:t>勿忘国耻</a:t>
            </a:r>
            <a:r>
              <a:rPr b="1" lang="zh-CN" sz="6600" spc="-1" strike="noStrike">
                <a:solidFill>
                  <a:srgbClr val="3333cc"/>
                </a:solidFill>
                <a:latin typeface="华文彩云"/>
                <a:ea typeface="华文彩云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      </a:t>
            </a:r>
            <a:r>
              <a:rPr b="1" lang="zh-CN" sz="6600" spc="-1" strike="noStrike">
                <a:solidFill>
                  <a:srgbClr val="3333cc"/>
                </a:solidFill>
                <a:latin typeface="华文彩云"/>
                <a:ea typeface="华文彩云"/>
              </a:rPr>
              <a:t>爱我中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1752480" cy="1081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2195640" y="5805360"/>
            <a:ext cx="69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ahoma"/>
              </a:rPr>
              <a:t>南京大屠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2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95280" y="692280"/>
            <a:ext cx="489744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《松花江上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我的家在东北松花江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那里有森林煤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还有那满山遍野的大豆高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我的家在东北松花江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那里有我的同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还有那衰老的爹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九一八”，“九一八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从那个悲惨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九一八”，“九一八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从那个悲惨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932360" y="98100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脱离了我的家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抛弃那无尽的宝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流浪！流浪！整日价在关内流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哪年，哪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才能够回到我那可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的故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哪年，哪月，才能够收回我那无尽的宝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爹娘啊，爹娘啊，什么时候才能欢聚在一堂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152720" cy="504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00032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9972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0" y="-55440"/>
            <a:ext cx="8459640" cy="593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      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  “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中华民族到了最危险的时候”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5931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553" name=""/>
          <p:cNvSpPr/>
          <p:nvPr/>
        </p:nvSpPr>
        <p:spPr>
          <a:xfrm>
            <a:off x="1692360" y="64008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战斗在白山黑水间的东北抗日义勇军战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101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 rot="277200">
            <a:off x="6659280" y="5516640"/>
            <a:ext cx="233352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 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907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日本侵略军侵略东北，为什么要先制造柳条湖事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 rot="277200">
            <a:off x="900000" y="259920"/>
            <a:ext cx="23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 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989000"/>
            <a:ext cx="82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给侵略战争制造一个借口，以便师出有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、占领中国东北，进而独霸中国，这是日本蓄谋已久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、为了欺骗世界舆论，给人造成一种是中国军队挑起事端的假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、柳条湖距东北军驻地北大营、东北重镇沈阳很近，便于日军在事后  对这两个战略要地进行攻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763640" y="162864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2000" y="1916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为什么每年的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9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月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18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日晚，东北沈阳总要响起长长的警报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386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提醒人民勿忘国耻，激励民族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576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258920" y="476280"/>
            <a:ext cx="7056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沈阳日军行动，可作为地方事件，望力避冲突，以免事态扩大。一切对日交涉，听候中央处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蒋介石致张学良密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1280" y="4005360"/>
            <a:ext cx="7993080" cy="2125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从这份密电可以看出蒋介石对九一八事变采取了什么样的政策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751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华民族扬眉吐气的时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900000" y="907920"/>
            <a:ext cx="31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不朽的民族战歌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195640" y="2708280"/>
            <a:ext cx="525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《义勇军进行曲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-1440" y="907920"/>
            <a:ext cx="91454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   </a:t>
            </a: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共同演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</a:t>
            </a: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《义勇军进行曲》</a:t>
            </a: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--- </a:t>
            </a: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《国歌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3276720" y="4292640"/>
            <a:ext cx="1368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4360" y="189000"/>
            <a:ext cx="806436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1931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年，日本侵略者在中国沈阳制造了震惊中外的九一八事变，东北三千万同胞沦陷在日寇铁蹄之下。此后，日本侵略者不断在中国华北、华东等地制造事端，扩张势力。在中华民族生死存亡关头，全国各界群众掀起声势浩大的抗日救亡怒潮，中国进入艰难的局部抗战时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1937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7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月，日本侵略者在卢沟桥发动蓄谋已久的全面侵华战争，中华民族面临亡国的严重危险。中国共产党号召团结一致，共御外侮。国共两党再度合作，并肩抗战。全国人民以极大的爱国热情投身到民族解放的洪流之中。经过全民族八年艰苦卓绝的殊死斗争，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1945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8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月，日本侵略者宣布无条件投降。中国人民终于第一次取得近代以来民族解放战争的完全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20720" cy="6588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572000" y="6453360"/>
            <a:ext cx="4048200" cy="1904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572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175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54764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义勇军进行曲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5640" y="1844640"/>
            <a:ext cx="7488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起来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不愿做奴隶的人们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把我们的血肉，筑成我们新的长城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中华民族到了最危险的时候，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每个人被迫着发出最後的吼声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起来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起来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起来！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我们万众一心，冒着敌人的炮火前进，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冒着敌人的炮火  前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前进！前进！进！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21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33014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5905800" cy="41054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无法原谅小日本的仇坚决抵制日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7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3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日夜晚，驻扎在中国东北的日本关东军经过精心策划，炸毁沈阳北郊附近柳条湖的一段铁路，反诬是中国军队破坏。日军以此为借口，炮击中国东北军驻地北大营，攻占沈阳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484360" y="1773360"/>
            <a:ext cx="38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九一八事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753080" cy="7160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1979640" y="189000"/>
            <a:ext cx="2160720" cy="115236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533240" cy="9032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411280" y="2276640"/>
            <a:ext cx="4032360" cy="2952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76720" y="1268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九一八事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6939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403280" y="1125360"/>
            <a:ext cx="59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九一八事变的结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529" name=""/>
          <p:cNvSpPr/>
          <p:nvPr/>
        </p:nvSpPr>
        <p:spPr>
          <a:xfrm>
            <a:off x="971640" y="3068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蒋介石采取不抵抗的政策，致使中国辽宁、吉林、黑龙江三省全部沦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rcRect l="2739" t="0" r="1972" b="0"/>
          <a:stretch/>
        </p:blipFill>
        <p:spPr>
          <a:xfrm>
            <a:off x="606600" y="333360"/>
            <a:ext cx="7921440" cy="62341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3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3959280" cy="43923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34" name=""/>
          <p:cNvSpPr/>
          <p:nvPr/>
        </p:nvSpPr>
        <p:spPr>
          <a:xfrm>
            <a:off x="4932360" y="5445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日本炮轰中国东北军驻地北大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3960720" cy="417672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1042920" y="105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柳条湖爆破现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4033800" cy="482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539" name=""/>
          <p:cNvSpPr/>
          <p:nvPr/>
        </p:nvSpPr>
        <p:spPr>
          <a:xfrm>
            <a:off x="5902200" y="544500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逃难的东北民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105440" cy="482436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541" name=""/>
          <p:cNvSpPr/>
          <p:nvPr/>
        </p:nvSpPr>
        <p:spPr>
          <a:xfrm>
            <a:off x="324000" y="83664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日军占领沈阳后在城墙上射击中国人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195640" y="616572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壮山河的“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八”纪念碑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2:12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0:16Z</dcterms:modified>
  <cp:revision>72</cp:revision>
  <dc:subject>主题班会课件(分28大类): http://shop62905894.taobao.com</dc:subject>
  <dc:title>主题班会课件(分28大类): http://shop62905894.taobao.com</dc:title>
</cp:coreProperties>
</file>